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482-A236-4ADD-B956-A4BEFEA1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E49-B766-4217-95B7-C4E59B7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73B-0019-45F1-AC19-4BB3B8A9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EAC-100D-4FEE-91CE-22150197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034-E8AE-4E13-BC71-5CF56FF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6B5-9A1E-4F46-946B-AAB4B6C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C79-C8C8-458D-BAF7-E4BB45FB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397-D3DD-4615-8C27-BC34DC1A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19F-6651-424A-8B44-244E629D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787-F776-4ADB-AB76-FB68C17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734-6935-4E5C-A1F4-A15586C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188-330F-4285-9106-9044F30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3B6-9F3D-4D1F-8091-A69F96B2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12160" y="0"/>
            <a:ext cx="13698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1166760" cy="175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86600" y="4724280"/>
            <a:ext cx="141588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581280" y="5029200"/>
            <a:ext cx="2336760" cy="153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959520" y="2666880"/>
            <a:ext cx="218448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85800" y="0"/>
            <a:ext cx="1397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438280" cy="6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115920"/>
            <a:ext cx="180324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584520" y="0"/>
            <a:ext cx="190188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657600" y="2743200"/>
            <a:ext cx="22604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23T22:32:30Z</dcterms:modified>
  <cp:revision>11</cp:revision>
  <dc:subject/>
  <dc:title>Slide 1</dc:title>
</cp:coreProperties>
</file>